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18C-F8B2-4CB2-9315-4A0737B0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007-D779-4704-B397-EA9B3EE7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03594-9221-4AAA-A943-1186EDB8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6818F-B77E-4881-AF3D-9655A027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21FB8-6711-4558-A05E-F3ABF01A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1607F-1445-419B-B307-EB154DC6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FBC21-9091-408F-8028-748AC18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D3B64-48E3-47F4-97E6-A622D586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05B94-2D45-4920-B973-53518F58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ACCE3-579C-498A-8E30-B3826814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E02EA4-2E01-4EAD-8399-F2F058FE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B39A11-B943-4820-8212-B03CACEC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26F-34FF-416C-B59D-075D3175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E99E5-96DF-44ED-B420-9509A4E7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38BCA-FD74-44B2-8F15-D30DE800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67E61-44BA-480F-B9AE-A992D00A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5A10C4-C295-4836-AC47-2D0561D4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7C6711-1596-470C-B4DA-4ED73E8B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3B112-BD43-43B0-A3CF-181E088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D91E3-2A5D-4427-9574-06CB1130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A0E5A-F8D7-42D2-B02C-A11BA78A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E63F9-9637-4FB2-B9CF-250AE059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F7BFC-FC4E-4906-8CCC-A49A41C3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C56-D997-4FC3-8088-66D91624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707F3-174D-41CF-BF54-2DDD4DEB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94CBC9-8414-4485-9A07-6D0B82F2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194B48-D625-426E-B9E0-BF7DE9CE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3F0421-E754-43E0-B717-EB7A4F70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DF0B94-83E6-4EAD-9602-0607EE78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FBEB8D-28BF-4B22-804F-83A275E5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7F1E35-969F-4F3A-A48B-05CF1E92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3CEF3A-7EAD-4744-B798-3B906070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D1F4A0-E39F-4419-B31F-965A2E8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1D3427-DB39-41C4-815C-299AA94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FF3D-C543-47CC-8651-7398F194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C4FA70-298D-492E-8FB4-002B3121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30F53E-09BA-4A00-980F-8968858C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C08049-464D-4B7F-A96C-37BAF4E1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3F20-8D47-41EA-A127-FF62745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1ABD-F74B-422D-A45B-C9CE0DCF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1A73-0EFD-4D60-9A01-195F6794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304E-B330-4C47-8960-5BB34DEB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E094-1D34-4504-BB74-C2260D8A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ECCB-3EB7-4B2E-A545-2B812E52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C1E-4191-446F-84E9-3E78CA94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A6D4-E37A-4106-8D92-CD10090B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18F1-307E-4EBD-B105-CA5749A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F3FB-D1A0-4879-B66A-5220D7B7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0640-EDBA-4CDC-9AFF-FB4B64DC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18F0-DEB3-4428-8D18-D7DBD5A0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E9FA-0423-44FE-8ED3-AFEE7DC4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A71F-017E-4620-9A1F-3BA6AEEE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EE488-1614-4144-9BEC-83CA89F2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7B78-5841-46E3-83DF-33C96A3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5415-DC0F-4011-89EC-A1ACD13F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3FEC-1D1C-46BB-B918-80238B3B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F703-EC19-4CCD-92CB-8DF18906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962E1-38E2-4314-B891-B9F6AE2F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91FCC-43B3-4474-A9C3-35CF3F0A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505F1-6EB9-4779-87EC-7B32BBAE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4563A-3325-4CE2-9E6A-EC135C2C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551C5-BF45-4016-8E8B-7E931669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1F11-A8A3-4D1F-AAB4-BD584EF4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F31B-B991-4C70-BDA9-3D47334A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960AA-CD06-4DC1-B245-AC39158F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31EE0-A03F-40A4-9D52-294F5626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032-2C62-4A60-A9D9-8C0F7E78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71563-3DB5-4CBA-95B2-1DB3356F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D59B8-8D44-4822-AD76-95355128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442DC-DF27-411C-B30B-3896C141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7E4F-4C63-421A-8BF5-0B30F3EC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6ECCF-56AA-4787-BE3E-02DB938C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9C30-965C-4968-9D73-1DF50A00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4664E-DCC1-4096-91F9-21CF43A2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39890-80D7-47C1-B028-69528CC5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1D55-DD38-4772-9EFD-DAB90CD2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C82C2-9AB4-4240-B11C-D392933E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982-348A-49ED-A1F8-D66EF482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A81A-EBEC-4F07-9673-A6D9CAAE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53CBB-8CDD-4F81-B99C-691F1DAD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88C8F-7AFE-4CC1-A85A-E3A03D8C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32D4F-E6DC-4E56-85C7-64910E97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012B6-3C5C-4B47-8422-1B16A2C2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91897-B2D5-4F13-A09F-0CEF98E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4AF27-1C54-4B3D-8294-3C513948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66B41-8898-486D-B88E-B69A9DA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45C8E-24F8-4EB4-9851-B40F4E71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D9CAD-D1CE-44E1-B674-679C9A90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251-7914-4416-884F-D3B13731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5904-1327-40AE-8F6A-A8DEB013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12193-CE1C-47D2-BF31-B0DA968C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0177C-9470-44CD-84F2-B8BE83C6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7439A-6E74-4C86-A2D6-0BC1E7C8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B804C-A48F-4E6B-AD69-E4345B5F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29DF1-EBEC-473E-8806-69EB54BB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2BA6A-EDE5-4918-86D3-8F18BB6F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E9124-CFEB-4FB9-9271-3941F574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B2BBD-FF31-4B73-B1AC-8576066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DD3A-3306-49E7-8F50-226EFC57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6AB-1F39-4BCD-915C-FD89397E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21EDD-67AF-4D41-898D-146C23A7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107B-AC1D-4BB7-B111-AC632D90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B381F-85AB-4CE5-B09E-ED950BB7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C0EDC-32DA-4FB1-85B5-CCBC23E2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F344B-5E93-450D-A01A-1B04CD6C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2CA5C-6E80-4A95-87A9-F562D10C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5D328-C66E-4C0C-A18A-0C92386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8F4F0-B055-4820-A71F-472F3C64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A2B88-2EC1-4128-A1BA-721AFCE9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F369E-7CB9-4E35-A624-A22F5DB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C6A-FFB8-4B36-BFC8-0C5A2B35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A97EE-8AC9-4FBE-B573-2DD583CF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B71A4-AA8A-46D0-9A83-1BEF039A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6D2EF-027B-47F3-B6BA-840D2078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299FA-0D33-47D1-98C4-77CD4749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BE68C-4CCE-41D5-A034-6701B5CB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E04C1-31FF-4AFB-BF9E-BCB6584F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BBA07-7732-46EA-9596-FCF81D1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ABC6D-1C24-4FFF-B59F-D3A0DA7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3C33F-EDCC-4171-BF2C-C1E97847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494D8-C2C0-4DDD-AAEB-61F3EEF9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705-7027-4F62-ABF9-617CC9B0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D742A-2433-45A3-BE0C-38CDFBF4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9A56F-DA96-436C-B111-95023E0B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3012D-5561-4D92-9E18-98F01C9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129C5-19C9-4370-99BD-82875D88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1659D-CB5C-4941-9271-05F36AA2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E5F8-6331-4438-9DDA-7A8906AE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67123-104A-4780-9605-9FB6B673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8BF96-9AA7-4EF2-899F-15A57849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9817D-4D3F-4396-B45C-FB6890DA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69B77-706F-46AD-8987-8266A130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20B2-B346-4B3F-9C23-5ED9EA324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A1E6-C19D-4F3D-8E4C-D2A193B40A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5A92-093F-49CD-B819-86AECDDCF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52ED-CB85-4848-94F4-8CC646B538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E34-495B-4188-ADC8-3577131C3B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EBCF-844C-4640-97B1-D35A4B7E03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531-1C24-4A1F-9FEC-2E7A82F1E5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E9A-E0CD-46A1-B057-FE2E6EDD2C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89D6-A659-4AFD-B8E8-7F7F58C9CD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048C-2DFE-4643-A919-B9E4DE7AA30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55A3-DE3A-4733-9EED-C1126219F2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IN SEARCH OF EFFICIENCY AND SUPERIOR EXECU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Strategic Organiza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stablished Patterns of Author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voiding conflict which might impact the guest experi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intaining standards which might impact the guest experi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king decisions on many issues while weighing the impact on the guest experie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derstanding and responding to a very dynamic environment: The Ritz Carlton empowerment mod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pan of Control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lates to the number of subordinates or partners who report to a superviso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more similar the tasks of subordinates or partners the wider the span of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more trained and skilled…the wider the span of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more predictable the work is…the wider the span of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s of Coordinating the 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Pooled interdepende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ctivities can be performed with little interaction between individuals / groups e.g. cashi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ndardized rules or procedures for each to follow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tensive training and direct supervis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ethods of Coordinating the 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Sequential interdepende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e task’s output is the second task’s inpu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guest check-in process (proper coordination between front desk receptionist and bell hop, front desk and housekeeping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ose coordination is possible only through direct communication and joint decision ma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nciples of Organization Desig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Chain of Comm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ryone should have a superior to report t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rganization chart should show chain of command and span of contr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om the organization chart, an employee can trace the way up the chain of command to the G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nciples of Organization Desig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Unity of Comm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ch person should have only one superi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nity of command is sometimes violated when staff manager gives order to line employe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.g. safety manager corrects a waiter (who reports to restaurant manager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M should help coordination if there is confusion in unity of comman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inciples of Organization Desig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46b86"/>
                </a:solidFill>
                <a:latin typeface="Georgia"/>
              </a:rPr>
              <a:t>Deleg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rocess in which superior assigns task, responsibility and autonomy to subordinat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Degree of deleg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Gather information for manag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Give alternatives for manager to selec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Make recommendation for manager to approv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Make decision but inform manager before proceed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Take action but inform manager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Arial Narrow"/>
              </a:rPr>
              <a:t>Take action, need not inform manag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fficiency AND Superior Execu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ntrol the Strateg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ans of motivating staff to work at organizational goa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ement of goal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t of assumptions or forecasts (environmental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Qualitative statement of how business will chan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cific action steps for implemen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t of financial proje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rovide information and feedback (information technology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fficiency AND Superior Execu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velop a Strong Adaptive Culture characterized b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ias for action - autonomy, risk-taking, entrepreneurship (intra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herent mission - sticks to what is important, close to custom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tructured for flexibilit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fficiency AND Superior Execu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reate a Meaningful Reward Syst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enerously reward those who reach objectives and deny reward to those who don’t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ayoff should be a major piece of total compensation and…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hould extend to everyone.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dministration is paramount (timely, consistent, fair)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ightly linked to strategic objectiv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very compensation/promotion decision will be carefully scrutinized by all employe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designing reward systems, jobs need to be defined in terms of the results to be accomplished, not duties and responsibiliti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mplementation Is Strateg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inctive performance is almost entirely a function of deep understand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not one thing a 1000% better but a 1000 things 1% better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organizations consist of many things -- the most critical are its inherent skills or distinctive competencies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distinctive skills -- “thousand thousand little things” are the real source of “fixed” barriers to imitation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THE CRITICAL COMPONENTS OF  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STRATEGIC ORGANIZATION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novative, dedicated, motivated peo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ve empowering leade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ganizational structures the match competitive strategies, efficient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ganizational controls and incentives that efficiently focus people on strategic goals and objectiv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appropriate administrative procedures and polici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ganizational arrangements that efficiently “govern” the critical activiti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efficient organizational boundari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ORGANIZATIONAL STRUC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 organization should be structured by its market strategy to reach its ultimate goa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siness costs rise from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upervisory monitoring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motivation problem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ordination activiti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Misinformation or no informa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YOU GET THER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do you get people to achieve organizational goals in the most efficient way possibl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blems in managing/motivating peopl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Lack of interest/Laziness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Unrestrained self-interes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Error and mistakes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ot clear in measuring performanc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mplexity/Inability in giving clear direc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WO MECHANISM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means to coordinate the work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A means to monitor and measure effectiveness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BASIC ELEMENTS IN ORGANIZATIONAL STRUCTURES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Work Special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 Departmental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 Established Patterns of Author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 Span of Contro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 Methods of Coordinating the Wor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 Specializ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hotels, work is divided between line and staff function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ine functions work directly with the guest in delivering the overall guest experience: Who are the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ff functions work to support the Line functions and are not necessarily in direct contact with the guest: Who are the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partmentaliz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ertain jobs are logically grouped together into departments to create efficiency in the organiz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hotels these departments must function together to deliver the guest experie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could a staff function such as Building Engineering impact the guest experience? Human Resourc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3T17:41:16Z</dcterms:created>
  <dc:creator>thomas hilton olson</dc:creator>
  <dc:description/>
  <dc:language>en-US</dc:language>
  <cp:lastModifiedBy>robert</cp:lastModifiedBy>
  <dcterms:modified xsi:type="dcterms:W3CDTF">2011-04-01T12:42:34Z</dcterms:modified>
  <cp:revision>16</cp:revision>
  <dc:subject/>
  <dc:title>ORGANIZATION &amp; STRUCTURE</dc:title>
</cp:coreProperties>
</file>